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1339-99BD-41F0-9905-BAC80DC34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ible 1.3 pg. 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952D-7C31-4C6D-88EE-10F1715F3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816D-EB48-4B69-8C5F-820C5D77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9D4C-9773-4B9F-A512-58A966C92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541B-6ABA-4EEB-B38D-0513EFB57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54EC-8B96-4430-B904-49104589F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00CD-5242-4F80-B361-E1E949E0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5245-9326-4B52-AB07-422FB261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2D28-F643-4197-8E3C-092DBC70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7A24-7F67-404A-869A-20C6B0FD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37F98-F12C-45C8-B2BF-4F5A5233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AE13C-CA9C-475F-ACED-42399677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66BE-6250-4C9C-AA9F-D6875147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A062-4889-4600-9C01-939F4E9D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BD3F-4802-4D30-B417-6ADFC97B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EDBF-3C9C-481C-A31F-34A00F6C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F988-2D96-48F6-A91B-C12919A03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DCDA-939C-43B4-8F40-E6F8161B4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8F03-4C0A-4001-A9D3-65359C61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EEA1-4717-42DF-8275-3F12A33F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7BBE-545B-449B-92B6-C92DB8DA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BD17-99CF-4382-8279-363B290C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5D51-869A-49E2-BD59-FB570451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ACA5-8D69-433A-BA97-F8F9DBFF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A322-7635-421A-95DB-833D4C79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D922-A666-4D48-8F47-050F63517C4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6875-9419-4394-B1FD-ABC538266C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District #6</a:t>
            </a:r>
            <a:br>
              <a:rPr sz="4800"/>
            </a:b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SIOP Trainer of Trainers</a:t>
            </a: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e 26-29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econd Language Acquisi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of second language acquisition provides the foundation for the SIO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®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circumstances or reasons for learning a second langu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ocial and Academic Langu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actors that affect language acquis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Cummins’ quadrant model of Language learn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gree or Disagree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914400" indent="-475200">
              <a:spcBef>
                <a:spcPts val="649"/>
              </a:spcBef>
              <a:buClr>
                <a:srgbClr val="5d5c2e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child acquires its first language primarily by imitating adul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75200">
              <a:spcBef>
                <a:spcPts val="649"/>
              </a:spcBef>
              <a:buClr>
                <a:srgbClr val="5d5c2e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ocess of acquiring a second language is more similar to the process of acquiring the first language than it is differ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75200">
              <a:spcBef>
                <a:spcPts val="649"/>
              </a:spcBef>
              <a:buClr>
                <a:srgbClr val="5d5c2e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est way for a child to learn English in school is to control the vocabulary, syntax, and sequence of grammatical structures that the child is exposed 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75200">
              <a:spcBef>
                <a:spcPts val="649"/>
              </a:spcBef>
              <a:buClr>
                <a:srgbClr val="5d5c2e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al fluency in English is a strong indicator that an ELL will succeed in the classroo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 few more..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560" y="156492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1" marL="847440" indent="-440640">
              <a:spcBef>
                <a:spcPts val="601"/>
              </a:spcBef>
              <a:buClr>
                <a:srgbClr val="5d5c2e"/>
              </a:buClr>
              <a:buSzPct val="75000"/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 a student has learned the language of instruction, his problems in the classroom are largely over and he should be able to handle academic assignments with little difficul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440640">
              <a:spcBef>
                <a:spcPts val="601"/>
              </a:spcBef>
              <a:buClr>
                <a:srgbClr val="5d5c2e"/>
              </a:buClr>
              <a:buSzPct val="75000"/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cing a child learning English in a mainstream classroom will ensure that she will spend enough time in English to learn the languag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440640">
              <a:spcBef>
                <a:spcPts val="601"/>
              </a:spcBef>
              <a:buClr>
                <a:srgbClr val="5d5c2e"/>
              </a:buClr>
              <a:buSzPct val="75000"/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nitial “silent period” can benefit the ELL because it allows him an opportunity to process and decode the new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440640">
              <a:spcBef>
                <a:spcPts val="601"/>
              </a:spcBef>
              <a:buClr>
                <a:srgbClr val="5d5c2e"/>
              </a:buClr>
              <a:buSzPct val="75000"/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od teachers should suggest to the parents of a child learning English that the parents speak English at h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ummary of Language Acquisi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ild learns language by unconsciously generating rules, perhaps to fill and innate blueprint (Chomsk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errors often indicate that learning is taking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learns language in meaningful, supportive, and communicative sett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understands more than he can s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ill require a lot of time to become flu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ircumstances for learning L1 vs. L2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ed at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ed by infants and todd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ed in order to communicate with loved 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ly and unconscious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time pressure to le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learn developmental concepts as well as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ed at school,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ages, often times o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e with community, work, could be to communicate with loved ones, succeed in the US, job marke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conscious, structured, learned not acquired, stressful, ongoing, use it or lose it, never becomes your L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sure of a timeframe, social and aca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 developmental concepts to L2 for o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tages of Language Acquisi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488600"/>
            <a:ext cx="88390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e-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lent Period”, 500 word receptive vocabul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arly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mited comprehension, one or two-word responses, 1000 word receptive vocabul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peech Emer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od comprehension, errors in grammar, simple sentences, 3000 word receptive vocab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termediate Fluen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3-5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llent comprehension, complex and varied sentence structure, 3000+ wo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ole pla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’s it like to try to communicate while remembering the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ose one person in your group to sta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gin by saying, “What I usually do each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ning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participant, in turn will add a sent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...none of you may use a word that contains the letter “n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y to maintain normal conversational spe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ocial and Academic Languag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s should be kept in ESL classes until they know English, then they can join mainstream classe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uss this statement with your small grou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ainstorm reasons why it doesn’t wo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IOP® model provides a framework for instruction that promotes content learning and English languag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grated Instr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cial and Academic language can and should be learne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oncurrent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ocial and Academic Languag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s will often appear to be fluent in English but in reality lack sufficient academic language proficiency and related skills to succeed in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is perceived as laz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haps it is a lack of proficiency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ademi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 proficiency is the ability to use language for both academic purposes and basic communicative tas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ocial vs. Academic Languag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r (shorter sentences, vocabulary and gramm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face-to-face, small groups, inf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e understanding seldom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, familiar to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verbal c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opportunities to clar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elcome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’s in the ro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ilding teams represen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ad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mber of years in edu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are we 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istent model for instr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can’t do it al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want what’s best for ki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actors that Affect L2 Acquisi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al page 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of the most important characteristics that affect the ease of difficulty of language development are the level of contextual support and the degree of cognitive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extual support: Clues, often nonverbal,that students use to gain meaning in a new language, “increase comprehensibility”, the environment (broad sen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gnitive demand: “brain strain”, level of difficulty of the cont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ummins’ Quadrant Mode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67080" y="205740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10080" y="25909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44197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38280" y="44197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14600" y="243828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59200" y="1641600"/>
            <a:ext cx="4300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gnitively Undemanding (Eas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11840" y="5867280"/>
            <a:ext cx="4012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gnitively Demanding (Ha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276720"/>
            <a:ext cx="18288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xt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ny clu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3276720"/>
            <a:ext cx="16761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xt Re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ew clu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ummins’ Quadrant Mode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1532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ich quadrant would the following activities f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ce-to-face convers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T te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-V assisted less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monst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lling li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cial Studies lesson with maps and pho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h word probl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ademic lessons without pro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cial telephone convers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ummins’ Quadrant Mode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acher’s role is NOT to make academic tasks less cognitively demanding, but to support their successful accomplishment by adding context, activating prior knowledge, and scaffolding the task for step-by-step suc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ther words...what can be done to take what is in quadrant D and move it to quadrant 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elf-evalu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35, 37 of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teams discuss strengths and weaknesses of their sta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UNCH!!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about 40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981080" y="2044800"/>
            <a:ext cx="571500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esson Prepar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ly defined content objectives for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ly defined language objectives for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concepts appropriate for age and educational background level of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ementary materials used to a high degree, making lesson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ation of content for all levels of student pro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ingful activities that integrate les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esson Prepar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oducible 3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llery wa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difference between content and language objectiv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a language objective to support a content objective (Reproducible 3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D standa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nguage fun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nguage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ocabulary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esson Prepar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your content and language objectives with a partner using the questions on Reproducible 3.3 (Manual pg. 1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deo-Lesson Pr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reproducible 3.7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rating Ms. Chen, Mrs. Hargroves , and Mr. Hensen in Ch. 2 of 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al pg. 75 and 77 are examples of a matrix to assist in developing language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uilding Team Discuss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through first three sections in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y points to cover with staf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light/note p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m through pg. 43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king Content Comprehen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ay 1 Objectives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icipants will become familiar with the SIO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® Mode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articipants will engage in practice with Lesson Preparation component of th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O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®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articipants will begin to develop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O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® -related lexic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articipants will discuss sources of language objectives, issues in second language acquisition, and implementation strategies for sheltered instru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ole Group Debrie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nk SIOP lesso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ng materials for last day work-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mentar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ntent standard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th, Science or Social Stud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ntent standard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ntent area materials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ckets out the d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thing new or that was reaffirmed to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ree key concepts from this section that I will share with my staf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gering question(s) around lesson prepa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verview of SIOP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Arial"/>
              </a:rPr>
              <a:t>®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sour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king Content Comprehensible for English Learn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Jana Echevarria, Mary Ellen Vogt and Deborah J. Sh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g. 200-The protoc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g. 209-Abbreviated protoc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pter lay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Manual not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g. 7-Treasure Hu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sheltered instru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ultaneous roundtab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verview of the SIOP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Arial"/>
              </a:rPr>
              <a:t>®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0 feat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sense of terms (manual pg. 23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difference between SDAIE and SIO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® is that SDAIE is a collection of strategies and th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O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®  is a scientifically validated mo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visual representation (manual pg. 2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ad “A Model for Sheltered Instruction” pgs. 13-16 of 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search Base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 year (1996-2003) partnership with Center for Research on Education, Diversity, &amp; Excellence (CRED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key practices for 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ine the effects on students’ academic literacy, 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 professional develo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years of collaboration with teachers to develop the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ity and reliability study found that the SIOP instrument is a highly reliable and valid measure of sheltered instruction (Guarino, et. al., 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search Resul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7-1998 comparison of ELLs with trained SIOP teachers and those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d a narrative prompt scored using the Illinois Measure of Annual Growth in English (IMAG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itive results for SIOP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8-1999 compar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d an expository promp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s on pg. 33 of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REAK!!!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take a 15 minute br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895480" y="2506680"/>
            <a:ext cx="297360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verview of 8 componen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y brainst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y S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for understanding (pg. 39 of manu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21:53:14Z</dcterms:created>
  <dc:creator>annramirez</dc:creator>
  <dc:description/>
  <dc:language>en-US</dc:language>
  <cp:lastModifiedBy>cblevins</cp:lastModifiedBy>
  <dcterms:modified xsi:type="dcterms:W3CDTF">2006-06-27T14:43:14Z</dcterms:modified>
  <cp:revision>20</cp:revision>
  <dc:subject/>
  <dc:title>District #6 SIOP Trainer of Trainers </dc:title>
</cp:coreProperties>
</file>